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3EF-8868-4B4F-B604-5CDA6EC7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A3B-0A83-4DB2-B239-F514C206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70F-D61E-482D-99B4-10FE1D6E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174-9F9D-4409-BABE-73250A3E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2D20-7D1C-4976-B9AD-4CE76CA1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B0E-C9F4-4C68-BF80-209B632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61A-5F42-41C9-80E1-AAC42BB3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D17-5710-465F-887D-6E17617B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DDB-44BE-4A93-ADDB-C7BA95CA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0F6-B3DC-4447-8BFE-C018621F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0D01-90AA-4E36-B009-D635CC5E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1BE-512C-4826-BDA7-467CC95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68A-CB80-4577-8BDB-3BC17072F406}" type="slidenum">
              <a:rPr b="0" lang="pt-PT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:\Ano Lectivo 2010-11\Uma estranha dor de barriga\0.jpg"/>
          <p:cNvPicPr/>
          <p:nvPr/>
        </p:nvPicPr>
        <p:blipFill>
          <a:blip r:embed="rId1"/>
          <a:stretch/>
        </p:blipFill>
        <p:spPr>
          <a:xfrm>
            <a:off x="468360" y="-38160"/>
            <a:ext cx="820728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:\Ano Lectivo 2010-11\Uma estranha dor de barriga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CaixaDeTexto 2"/>
          <p:cNvSpPr/>
          <p:nvPr/>
        </p:nvSpPr>
        <p:spPr>
          <a:xfrm>
            <a:off x="6300720" y="3141720"/>
            <a:ext cx="2843280" cy="26535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arece que tenho um tanque de guerra metido na barriga e não me apetece comer n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:\Ano Lectivo 2010-11\Uma estranha dor de barriga\9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Chamada rectangular arredondada 2"/>
          <p:cNvSpPr/>
          <p:nvPr/>
        </p:nvSpPr>
        <p:spPr>
          <a:xfrm>
            <a:off x="5657760" y="3005280"/>
            <a:ext cx="3486240" cy="3016080"/>
          </a:xfrm>
          <a:prstGeom prst="wedgeRoundRectCallout">
            <a:avLst>
              <a:gd name="adj1" fmla="val -85101"/>
              <a:gd name="adj2" fmla="val -49699"/>
              <a:gd name="adj3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o é que eu hei-de explicar… é como se tivesse uma estranha dor de barriga, sinto-me confuso, vejo tudo a andar à roda e o meu coração parece que aumenta de taman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:\Ano Lectivo 2010-11\Uma estranha dor de barriga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:\Ano Lectivo 2010-11\Uma estranha dor de barriga\11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:\Ano Lectivo 2010-11\Uma estranha dor de barriga\12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CaixaDeTexto 2"/>
          <p:cNvSpPr/>
          <p:nvPr/>
        </p:nvSpPr>
        <p:spPr>
          <a:xfrm>
            <a:off x="0" y="0"/>
            <a:ext cx="2771640" cy="39333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esde que conheço a Alice, tomo vários banhos por dia, penteio-me vezes sem cont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ço tudo o que antes odiava faz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:\Ano Lectivo 2010-11\Uma estranha dor de barriga\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:\Ano Lectivo 2010-11\Uma estranha dor de barriga\14.jpg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:\Ano Lectivo 2010-11\Uma estranha dor de barriga\15.jpg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:\Ano Lectivo 2010-11\Uma estranha dor de barriga\16.jpg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:\Ano Lectivo 2010-11\Uma estranha dor de barriga\17.jpg"/>
          <p:cNvPicPr/>
          <p:nvPr/>
        </p:nvPicPr>
        <p:blipFill>
          <a:blip r:embed="rId1"/>
          <a:stretch/>
        </p:blipFill>
        <p:spPr>
          <a:xfrm>
            <a:off x="826920" y="0"/>
            <a:ext cx="756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:\Ano Lectivo 2010-11\Uma estranha dor de barriga\1.jpg"/>
          <p:cNvPicPr/>
          <p:nvPr/>
        </p:nvPicPr>
        <p:blipFill>
          <a:blip r:embed="rId1"/>
          <a:stretch/>
        </p:blipFill>
        <p:spPr>
          <a:xfrm>
            <a:off x="468360" y="17640"/>
            <a:ext cx="820728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Ano Lectivo 2010-11\Uma estranha dor de barriga\18.jpg"/>
          <p:cNvPicPr/>
          <p:nvPr/>
        </p:nvPicPr>
        <p:blipFill>
          <a:blip r:embed="rId1"/>
          <a:stretch/>
        </p:blipFill>
        <p:spPr>
          <a:xfrm>
            <a:off x="826920" y="0"/>
            <a:ext cx="749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:\Ano Lectivo 2010-11\Uma estranha dor de barriga\19.jpg"/>
          <p:cNvPicPr/>
          <p:nvPr/>
        </p:nvPicPr>
        <p:blipFill>
          <a:blip r:embed="rId1"/>
          <a:stretch/>
        </p:blipFill>
        <p:spPr>
          <a:xfrm>
            <a:off x="971640" y="0"/>
            <a:ext cx="727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:\Ano Lectivo 2010-11\Uma estranha dor de barriga\2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:\Ano Lectivo 2010-11\Uma estranha dor de barriga\21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:\Ano Lectivo 2010-11\Uma estranha dor de barriga\22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:\Ano Lectivo 2010-11\Uma estranha dor de barriga\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CaixaDeTexto 2"/>
          <p:cNvSpPr/>
          <p:nvPr/>
        </p:nvSpPr>
        <p:spPr>
          <a:xfrm>
            <a:off x="0" y="692280"/>
            <a:ext cx="2843280" cy="1557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ntão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Alice gosta de mi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tou tão contente que me sinto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CaixaDeTexto 3"/>
          <p:cNvSpPr/>
          <p:nvPr/>
        </p:nvSpPr>
        <p:spPr>
          <a:xfrm>
            <a:off x="0" y="2205000"/>
            <a:ext cx="1835280" cy="1557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um foguet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que vai à Lu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à veloc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a luz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CaixaDeTexto 4"/>
          <p:cNvSpPr/>
          <p:nvPr/>
        </p:nvSpPr>
        <p:spPr>
          <a:xfrm>
            <a:off x="0" y="3716280"/>
            <a:ext cx="118728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CaixaDeTexto 5"/>
          <p:cNvSpPr/>
          <p:nvPr/>
        </p:nvSpPr>
        <p:spPr>
          <a:xfrm>
            <a:off x="1835280" y="2276640"/>
            <a:ext cx="21564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deada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:\Ano Lectivo 2010-11\Uma estranha dor de barriga\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CaixaDeTexto 2"/>
          <p:cNvSpPr/>
          <p:nvPr/>
        </p:nvSpPr>
        <p:spPr>
          <a:xfrm>
            <a:off x="0" y="1341360"/>
            <a:ext cx="1835280" cy="35067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h, não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inda sinto aquela estranha dor de barrig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erá de amo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:\Ano Lectivo 2010-11\Uma estranha dor de barriga\2.jpg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:\Ano Lectivo 2010-11\Uma estranha dor de barriga\3 a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:\Ano Lectivo 2010-11\Uma estranha dor de barriga\3 b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:\Ano Lectivo 2010-11\Uma estranha dor de barriga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:\Ano Lectivo 2010-11\Uma estranha dor de barriga\5.jpg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Ano Lectivo 2010-11\Uma estranha dor de barriga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Chamada rectangular arredondada 3"/>
          <p:cNvSpPr/>
          <p:nvPr/>
        </p:nvSpPr>
        <p:spPr>
          <a:xfrm>
            <a:off x="6227640" y="1916280"/>
            <a:ext cx="2916360" cy="2233440"/>
          </a:xfrm>
          <a:prstGeom prst="wedgeRoundRectCallout">
            <a:avLst>
              <a:gd name="adj1" fmla="val -70300"/>
              <a:gd name="adj2" fmla="val 4427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Uauuu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Quem és tu? Pareces um anjo… Vieste buscar-me para me levar para o paraís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Chamada rectangular arredondada 4"/>
          <p:cNvSpPr/>
          <p:nvPr/>
        </p:nvSpPr>
        <p:spPr>
          <a:xfrm>
            <a:off x="6480000" y="476280"/>
            <a:ext cx="2664000" cy="1368360"/>
          </a:xfrm>
          <a:prstGeom prst="wedgeRoundRectCallout">
            <a:avLst>
              <a:gd name="adj1" fmla="val -66875"/>
              <a:gd name="adj2" fmla="val 145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Desculp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Foi sem quer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Não te vi. Ah! O meu nome é Al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:\Ano Lectivo 2010-11\Uma estranha dor de barriga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aixaDeTexto 2"/>
          <p:cNvSpPr/>
          <p:nvPr/>
        </p:nvSpPr>
        <p:spPr>
          <a:xfrm>
            <a:off x="7164360" y="3397320"/>
            <a:ext cx="1979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É incrível, mas desde o dia do encontrão, cada vez que vejo a Alice é como se a minha boca se fechasse com col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7T09:39:08Z</dcterms:created>
  <dc:creator>Windows User</dc:creator>
  <dc:description/>
  <dc:language>en-US</dc:language>
  <cp:lastModifiedBy>Teresa Beja</cp:lastModifiedBy>
  <dcterms:modified xsi:type="dcterms:W3CDTF">2013-10-04T17:22:16Z</dcterms:modified>
  <cp:revision>8</cp:revision>
  <dc:subject/>
  <dc:title>Diapositivo 1</dc:title>
</cp:coreProperties>
</file>